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770C-ED70-4656-916F-B1965FE76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CA77-576A-4002-B9D2-01E4804B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CA03-627E-4FC1-AC04-EB6002C64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7795-033C-4735-92CF-6B5DB80C7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C8FF-D5BC-46A5-A325-DD62034E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6631-960E-4D6B-935F-7C59135D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06B8-8C48-4A3F-9780-29532928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BC33-75D5-40F9-AFE2-716B2FD9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18F1-0EC2-4587-A657-826C3B53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8C27-E9FE-4307-BAE4-767B62B4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89AB-1D5F-42D3-B676-9D7B65FC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F22F-8518-4E1F-97CB-BBA77413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FCB7-86ED-403D-8FF6-71BC3646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8912-45FD-4D27-80FE-C0BA3A90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E644-5AE3-4856-8463-E4664BB9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8F5E-5985-49FA-AD59-7F1CEDB5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3FFA-858A-4CC5-9212-9EDA08283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D913-B853-4BE4-9076-E6AFEA4B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B036-22F6-430B-9578-9B474C16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FF68-184B-4897-8AA5-943667F3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1217-30B7-48B9-AB0C-F58FCAE6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4C63-8CFC-4505-AF3F-A3764108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7BA1-E357-4C8D-AC16-29303FF2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62FA-6A84-449E-B6D0-5F03F9D4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F5EC-ED9D-4DFE-B08C-00DE96E6C6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DB11-D205-48CD-9C50-6733F6863C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1"/>
          <p:cNvSpPr/>
          <p:nvPr/>
        </p:nvSpPr>
        <p:spPr>
          <a:xfrm>
            <a:off x="228600" y="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llringer 3/13/20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228600" y="609480"/>
            <a:ext cx="5486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nk about the homework you worked on last night and the achievements of the Muslims.  Answer the following question in the first 4 minut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228600" y="403848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ich Muslim achievement was or is the most important as far as its impact on the world and history?  Why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17" descr="al-jabr"/>
          <p:cNvPicPr/>
          <p:nvPr/>
        </p:nvPicPr>
        <p:blipFill>
          <a:blip r:embed="rId1"/>
          <a:stretch/>
        </p:blipFill>
        <p:spPr>
          <a:xfrm>
            <a:off x="6019920" y="380880"/>
            <a:ext cx="2725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20:10:04Z</dcterms:created>
  <dc:creator>admin</dc:creator>
  <dc:description/>
  <dc:language>en-US</dc:language>
  <cp:lastModifiedBy>admin</cp:lastModifiedBy>
  <dcterms:modified xsi:type="dcterms:W3CDTF">2012-03-13T11:57:54Z</dcterms:modified>
  <cp:revision>12</cp:revision>
  <dc:subject/>
  <dc:title>Slide 1</dc:title>
</cp:coreProperties>
</file>